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C788-BCEA-4BF9-AECB-62F52385432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1859-69D4-4794-B9D0-6F4DBEE0DB5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4726-66BD-4E9A-BBA1-CAFABB7B2BA0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corollary, need to make sure that your well-named files are organized in a logical directory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F9BD-11CE-4BE3-973A-8BE5975A12C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7936-3632-4C4C-A5A2-839A991CC12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disaster may strike not just your computer, but also your building or city. Public repositories provide mirroring of your data at multiple, managed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EE50-B13A-4923-893D-93F57268DB84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260280" y="299880"/>
            <a:ext cx="69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Responsible Data Use and Local Data Management; Presented 8 Nov 2011, APECS Webinar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iki.esipfed.org/index.php/Data_Management_Course_Outline" TargetMode="External"/><Relationship Id="rId3" Type="http://schemas.openxmlformats.org/officeDocument/2006/relationships/hyperlink" Target="http://wiki.esipfed.org/index.php/Data_Management_Resources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sidc.org/data/mod10a1v5.html" TargetMode="External"/><Relationship Id="rId2" Type="http://schemas.openxmlformats.org/officeDocument/2006/relationships/hyperlink" Target="http://nsidc.org/data/g02199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 and Local Data Management 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In the Near Futur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Cite and other groups are working to make data citation a normal part of the scientific pro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example, as of this year Thompson-Reuters Web of Science and Web of Knowledge include published data sets (i.e., that have a DOI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provide feedback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vent other users from repeating your mistak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Improve the data or their 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tter science, perhaps even new results, papers, and collabor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providing feedback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PI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our reasons for using someone else’s data are likely different than their reasons for acquiring it in the first pla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, they probably weren’t thinking of your needs when they acquired, documented and made it availab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et, if they thought their data would be useful to a community they probably would be eager to hel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iplomacy and tact may be called for (especially if you really think you’ve found an error not just a documentation problem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data center is almost always welcom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58720" y="4267080"/>
            <a:ext cx="11862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elvetica Neue Light"/>
              </a:rPr>
              <a:t>Local Data Management</a:t>
            </a:r>
            <a:endParaRPr b="0" lang="en-US" sz="5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Title 1"/>
          <p:cNvSpPr/>
          <p:nvPr/>
        </p:nvSpPr>
        <p:spPr>
          <a:xfrm>
            <a:off x="558720" y="5257800"/>
            <a:ext cx="1186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(or managing your own data)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4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507960" y="3357720"/>
            <a:ext cx="11862000" cy="35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06060"/>
                </a:solidFill>
                <a:latin typeface="Arial"/>
                <a:ea typeface="Arial"/>
              </a:rPr>
              <a:t>The 5 P</a:t>
            </a:r>
            <a:r>
              <a:rPr b="0" lang="ja-JP" sz="6800" spc="-1" strike="noStrike">
                <a:solidFill>
                  <a:srgbClr val="606060"/>
                </a:solidFill>
                <a:latin typeface="Arial"/>
                <a:ea typeface="Arial"/>
              </a:rPr>
              <a:t>’</a:t>
            </a:r>
            <a:r>
              <a:rPr b="0" lang="en-US" sz="6800" spc="-1" strike="noStrike">
                <a:solidFill>
                  <a:srgbClr val="606060"/>
                </a:solidFill>
                <a:latin typeface="Arial"/>
                <a:ea typeface="Arial"/>
              </a:rPr>
              <a:t>s matter!</a:t>
            </a:r>
            <a:endParaRPr b="0" lang="en-US" sz="6800" spc="-1" strike="noStrike">
              <a:solidFill>
                <a:srgbClr val="606060"/>
              </a:solidFill>
              <a:latin typeface="Helvetica Neue"/>
            </a:endParaRPr>
          </a:p>
          <a:p>
            <a:pPr indent="0" algn="ctr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Arial"/>
                <a:ea typeface="Arial"/>
              </a:rPr>
              <a:t>(prior planning prevents poor performance)</a:t>
            </a:r>
            <a:endParaRPr b="0" lang="en-US" sz="4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Local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71320" y="2324160"/>
            <a:ext cx="11645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le nam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ing up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forma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ation and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ilbert’s file naming conven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0" name="Picture 4" descr="file_naming_convention_dilbert.jpg"/>
          <p:cNvPicPr/>
          <p:nvPr/>
        </p:nvPicPr>
        <p:blipFill>
          <a:blip r:embed="rId1"/>
          <a:srcRect l="27307" t="16157" r="29975" b="0"/>
          <a:stretch/>
        </p:blipFill>
        <p:spPr>
          <a:xfrm rot="16200000">
            <a:off x="4075920" y="75240"/>
            <a:ext cx="4402080" cy="115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Helvetica Neue Light"/>
              </a:rPr>
              <a:t>Assign descriptive file name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571320" y="2324160"/>
            <a:ext cx="11861640" cy="689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File names should be </a:t>
            </a:r>
            <a:r>
              <a:rPr b="0" lang="en-US" sz="4000" spc="-1" strike="noStrike" u="sng">
                <a:solidFill>
                  <a:srgbClr val="606060"/>
                </a:solidFill>
                <a:uFillTx/>
                <a:latin typeface="Helvetica Neue"/>
              </a:rPr>
              <a:t>unique</a:t>
            </a: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 and </a:t>
            </a:r>
            <a:r>
              <a:rPr b="0" lang="en-US" sz="4000" spc="-1" strike="noStrike" u="sng">
                <a:solidFill>
                  <a:srgbClr val="606060"/>
                </a:solidFill>
                <a:uFillTx/>
                <a:latin typeface="Helvetica Neue"/>
              </a:rPr>
              <a:t>reflect the file contents 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Bad file names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y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2001_data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A better file name might be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igfoot_agro_2000_gpp.tif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BigFoot is the project nam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gro is the field site nam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2000 is the calendar yea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PP represents Gross  Primary Productivity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9572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if is the file type – GeoTIFF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06060"/>
                </a:solidFill>
                <a:latin typeface="Helvetica Neue"/>
              </a:rPr>
              <a:t>But only if you document the naming convention!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512640" indent="-51264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Content Placeholder 3" descr="story told in file names.tiff"/>
          <p:cNvPicPr/>
          <p:nvPr/>
        </p:nvPicPr>
        <p:blipFill>
          <a:blip r:embed="rId1"/>
          <a:srcRect l="-12790" t="0" r="-12790" b="0"/>
          <a:stretch/>
        </p:blipFill>
        <p:spPr>
          <a:xfrm>
            <a:off x="-1422360" y="304920"/>
            <a:ext cx="15604920" cy="8582040"/>
          </a:xfrm>
          <a:prstGeom prst="rect">
            <a:avLst/>
          </a:prstGeom>
          <a:ln w="0">
            <a:noFill/>
          </a:ln>
        </p:spPr>
      </p:pic>
      <p:sp>
        <p:nvSpPr>
          <p:cNvPr id="784" name="Straight Connector 7"/>
          <p:cNvSpPr/>
          <p:nvPr/>
        </p:nvSpPr>
        <p:spPr>
          <a:xfrm>
            <a:off x="325440" y="8886960"/>
            <a:ext cx="122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5" descr=""/>
          <p:cNvPicPr/>
          <p:nvPr/>
        </p:nvPicPr>
        <p:blipFill>
          <a:blip r:embed="rId1"/>
          <a:stretch/>
        </p:blipFill>
        <p:spPr>
          <a:xfrm>
            <a:off x="231840" y="2003400"/>
            <a:ext cx="1933560" cy="19321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6" descr=""/>
          <p:cNvPicPr/>
          <p:nvPr/>
        </p:nvPicPr>
        <p:blipFill>
          <a:blip r:embed="rId2"/>
          <a:stretch/>
        </p:blipFill>
        <p:spPr>
          <a:xfrm>
            <a:off x="841320" y="379260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"/>
          <p:cNvPicPr/>
          <p:nvPr/>
        </p:nvPicPr>
        <p:blipFill>
          <a:blip r:embed="rId3"/>
          <a:stretch/>
        </p:blipFill>
        <p:spPr>
          <a:xfrm>
            <a:off x="1708200" y="520236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8" descr=""/>
          <p:cNvPicPr/>
          <p:nvPr/>
        </p:nvPicPr>
        <p:blipFill>
          <a:blip r:embed="rId4"/>
          <a:stretch/>
        </p:blipFill>
        <p:spPr>
          <a:xfrm>
            <a:off x="1708200" y="644832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" descr=""/>
          <p:cNvPicPr/>
          <p:nvPr/>
        </p:nvPicPr>
        <p:blipFill>
          <a:blip r:embed="rId5"/>
          <a:stretch/>
        </p:blipFill>
        <p:spPr>
          <a:xfrm>
            <a:off x="841320" y="74772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790" name="TextBox 10"/>
          <p:cNvSpPr/>
          <p:nvPr/>
        </p:nvSpPr>
        <p:spPr>
          <a:xfrm>
            <a:off x="206280" y="2427120"/>
            <a:ext cx="18363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TextBox 11"/>
          <p:cNvSpPr/>
          <p:nvPr/>
        </p:nvSpPr>
        <p:spPr>
          <a:xfrm>
            <a:off x="1034640" y="4335480"/>
            <a:ext cx="8733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ke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TextBox 12"/>
          <p:cNvSpPr/>
          <p:nvPr/>
        </p:nvSpPr>
        <p:spPr>
          <a:xfrm>
            <a:off x="1483200" y="5527800"/>
            <a:ext cx="17449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eriments</a:t>
            </a:r>
            <a:endParaRPr b="0" lang="en-US" sz="23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1518480" y="6765840"/>
            <a:ext cx="1492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eld work</a:t>
            </a:r>
            <a:endParaRPr b="0" lang="en-US" sz="23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TextBox 14"/>
          <p:cNvSpPr/>
          <p:nvPr/>
        </p:nvSpPr>
        <p:spPr>
          <a:xfrm>
            <a:off x="743400" y="8020080"/>
            <a:ext cx="15850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ssland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TextBox 15"/>
          <p:cNvSpPr/>
          <p:nvPr/>
        </p:nvSpPr>
        <p:spPr>
          <a:xfrm>
            <a:off x="3648960" y="4984920"/>
            <a:ext cx="558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_H20_heatExp_2005_2008.csv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TextBox 16"/>
          <p:cNvSpPr/>
          <p:nvPr/>
        </p:nvSpPr>
        <p:spPr>
          <a:xfrm>
            <a:off x="3653280" y="5576760"/>
            <a:ext cx="6201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_H20_predatorExp_2001_2003.csv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TextBox 17"/>
          <p:cNvSpPr/>
          <p:nvPr/>
        </p:nvSpPr>
        <p:spPr>
          <a:xfrm>
            <a:off x="3670560" y="6561000"/>
            <a:ext cx="7367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_H20_planktonCount_start2001_active.csv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TextBox 18"/>
          <p:cNvSpPr/>
          <p:nvPr/>
        </p:nvSpPr>
        <p:spPr>
          <a:xfrm>
            <a:off x="3648600" y="7064280"/>
            <a:ext cx="5364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_H20_chla_profiles_2003.csv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TextBox 19"/>
          <p:cNvSpPr/>
          <p:nvPr/>
        </p:nvSpPr>
        <p:spPr>
          <a:xfrm>
            <a:off x="3556440" y="5673600"/>
            <a:ext cx="6292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TextBox 20"/>
          <p:cNvSpPr/>
          <p:nvPr/>
        </p:nvSpPr>
        <p:spPr>
          <a:xfrm>
            <a:off x="3556440" y="7319880"/>
            <a:ext cx="6292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33440" y="390600"/>
            <a:ext cx="8128080" cy="134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Helvetica Neue Light"/>
              </a:rPr>
              <a:t>Organize files logically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709720" y="2058840"/>
            <a:ext cx="7477200" cy="216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Calibri"/>
              </a:rPr>
              <a:t>Make sure your file system is logical and effici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3" name="TextBox 21"/>
          <p:cNvSpPr/>
          <p:nvPr/>
        </p:nvSpPr>
        <p:spPr>
          <a:xfrm>
            <a:off x="7035840" y="8561520"/>
            <a:ext cx="4776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ourtesy of S. Hampton, UC-Santa Barbara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81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sponsible Data Us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air access and us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restric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itation and credi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oviding feedbac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Local Data Manag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ile nam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rectory structur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Backing up your 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forma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ocumentation and metadata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635040" y="4114800"/>
            <a:ext cx="1179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Backup Your Data!!!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07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96534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y?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09" name="Picture 5" descr="InsertedImage-small.jpg"/>
          <p:cNvPicPr/>
          <p:nvPr/>
        </p:nvPicPr>
        <p:blipFill>
          <a:blip r:embed="rId2"/>
          <a:stretch/>
        </p:blipFill>
        <p:spPr>
          <a:xfrm>
            <a:off x="9380520" y="4878360"/>
            <a:ext cx="2656080" cy="11955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6" descr="InsertedImage.jpg"/>
          <p:cNvPicPr/>
          <p:nvPr/>
        </p:nvPicPr>
        <p:blipFill>
          <a:blip r:embed="rId3"/>
          <a:stretch/>
        </p:blipFill>
        <p:spPr>
          <a:xfrm>
            <a:off x="7684920" y="3100320"/>
            <a:ext cx="2540160" cy="17780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7" descr="InsertedImage.jpg"/>
          <p:cNvPicPr/>
          <p:nvPr/>
        </p:nvPicPr>
        <p:blipFill>
          <a:blip r:embed="rId4"/>
          <a:stretch/>
        </p:blipFill>
        <p:spPr>
          <a:xfrm>
            <a:off x="6251400" y="5715000"/>
            <a:ext cx="2959200" cy="380988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8"/>
          <p:cNvSpPr/>
          <p:nvPr/>
        </p:nvSpPr>
        <p:spPr>
          <a:xfrm>
            <a:off x="426960" y="3618000"/>
            <a:ext cx="779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Broken DVD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Rectangle 9"/>
          <p:cNvSpPr/>
          <p:nvPr/>
        </p:nvSpPr>
        <p:spPr>
          <a:xfrm>
            <a:off x="426960" y="4800600"/>
            <a:ext cx="660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A burned up memory stick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Rectangle 10"/>
          <p:cNvSpPr/>
          <p:nvPr/>
        </p:nvSpPr>
        <p:spPr>
          <a:xfrm>
            <a:off x="426960" y="6934320"/>
            <a:ext cx="542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A crashed hard drive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426960" y="5803920"/>
            <a:ext cx="472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A drowned laptop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6" name="Picture 12" descr="InsertedImage.gif"/>
          <p:cNvPicPr/>
          <p:nvPr/>
        </p:nvPicPr>
        <p:blipFill>
          <a:blip r:embed="rId5"/>
          <a:stretch/>
        </p:blipFill>
        <p:spPr>
          <a:xfrm>
            <a:off x="5956200" y="5591160"/>
            <a:ext cx="6508800" cy="393372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1"/>
          <p:cNvSpPr/>
          <p:nvPr/>
        </p:nvSpPr>
        <p:spPr>
          <a:xfrm>
            <a:off x="330120" y="2309760"/>
            <a:ext cx="95252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You think it's easy to recover data off a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Backing up your data file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541080" y="2276280"/>
            <a:ext cx="11828520" cy="717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reate back-up copies ofte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deally three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original, one on-site (external), and one off-sit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requency based on need / risk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Higher value data should be backed up more often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ensor data collected at high frequency should be backed up more frequentl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nsure that all backup copies are identical to the original fil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Use checksums or file comparis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Calibri"/>
              </a:rPr>
              <a:t>Test your backups</a:t>
            </a:r>
            <a:endParaRPr b="0" lang="en-US" sz="51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541080" y="2276280"/>
            <a:ext cx="11828520" cy="66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utomatically test backup copies of files frequently to ensure they are viable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Media degrade over tim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Test copies using check sum or file compar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Be certain that you can recover from a data los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eriodically test your ability to restore information (at least once a year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imulate an actual loss, by trying to recover solely from the backed up copi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Formats – Best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n’t use a proprietary forma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se have a short shelf life and will probably become unreadable after a few yea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n’t invent your own forma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 one but you will have the tools to read i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Use open source, well-documented, community-based standard formats where ever possible especially if they are self-describing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elf-describing data forma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formation describing the data contents of the file are embedded within the data file itself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mes for various field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types – Standardized, portable, machine independ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ointers to various fields, making it efficient to extract the particular fields you want without reading the entire fi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40080" indent="-2581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ttributes and flags related to the primary fields with extra information such as units, fill values, etc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clude a standard API and portable data access libraries in a variety of language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re are tools that can open and work with arbitrary files, using the embedded descriptions to interpret the data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ome example self-describing format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HDF – Hierarchical Data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HDF4 and HDF5 versions are in use toda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 NASA variant called HDF-EOS is used within the Earth Observing System program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etCDF – Network Common Data For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Widely used by agencies including NASA and NOAA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Climate and forecast (CF) metadata conventions help standardize some things into NetCDF in a common manner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635040" y="3886200"/>
            <a:ext cx="1179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Documentation (metadata)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31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041372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oor data practice results in loss of information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833" name="Group 5"/>
          <p:cNvGrpSpPr/>
          <p:nvPr/>
        </p:nvGrpSpPr>
        <p:grpSpPr>
          <a:xfrm>
            <a:off x="1236600" y="2197080"/>
            <a:ext cx="10252440" cy="7223400"/>
            <a:chOff x="1236600" y="2197080"/>
            <a:chExt cx="10252440" cy="7223400"/>
          </a:xfrm>
        </p:grpSpPr>
        <p:grpSp>
          <p:nvGrpSpPr>
            <p:cNvPr id="834" name="Group 6"/>
            <p:cNvGrpSpPr/>
            <p:nvPr/>
          </p:nvGrpSpPr>
          <p:grpSpPr>
            <a:xfrm>
              <a:off x="1958760" y="2854800"/>
              <a:ext cx="9311760" cy="5939280"/>
              <a:chOff x="1958760" y="2854800"/>
              <a:chExt cx="9311760" cy="5939280"/>
            </a:xfrm>
          </p:grpSpPr>
          <p:sp>
            <p:nvSpPr>
              <p:cNvPr id="835" name="Line 7"/>
              <p:cNvSpPr/>
              <p:nvPr/>
            </p:nvSpPr>
            <p:spPr>
              <a:xfrm>
                <a:off x="1958760" y="2854800"/>
                <a:ext cx="11160" cy="5925240"/>
              </a:xfrm>
              <a:prstGeom prst="line">
                <a:avLst/>
              </a:prstGeom>
              <a:ln w="54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36" name="Line 8"/>
              <p:cNvSpPr/>
              <p:nvPr/>
            </p:nvSpPr>
            <p:spPr>
              <a:xfrm>
                <a:off x="1984320" y="8780040"/>
                <a:ext cx="9286200" cy="14040"/>
              </a:xfrm>
              <a:prstGeom prst="line">
                <a:avLst/>
              </a:prstGeom>
              <a:ln w="54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37" name="AutoShape 9"/>
              <p:cNvSpPr/>
              <p:nvPr/>
            </p:nvSpPr>
            <p:spPr>
              <a:xfrm rot="10920000">
                <a:off x="2479320" y="3121560"/>
                <a:ext cx="4222800" cy="281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3" y="0"/>
                      <a:pt x="7" y="0"/>
                      <a:pt x="11" y="0"/>
                    </a:cubicBezTo>
                    <a:cubicBezTo>
                      <a:pt x="11934" y="0"/>
                      <a:pt x="21600" y="9584"/>
                      <a:pt x="21600" y="21408"/>
                    </a:cubicBezTo>
                    <a:cubicBezTo>
                      <a:pt x="21600" y="21472"/>
                      <a:pt x="21599" y="21535"/>
                      <a:pt x="21599" y="2160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38" name="AutoShape 10"/>
              <p:cNvSpPr/>
              <p:nvPr/>
            </p:nvSpPr>
            <p:spPr>
              <a:xfrm rot="10920000">
                <a:off x="6601680" y="6051240"/>
                <a:ext cx="1815120" cy="1916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3514" y="4904"/>
                      <a:pt x="21586" y="12976"/>
                      <a:pt x="21600" y="2160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39" name="AutoShape 11"/>
              <p:cNvSpPr/>
              <p:nvPr/>
            </p:nvSpPr>
            <p:spPr>
              <a:xfrm>
                <a:off x="8390880" y="8005680"/>
                <a:ext cx="214308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21600"/>
                    </a:moveTo>
                    <a:cubicBezTo>
                      <a:pt x="9666" y="21588"/>
                      <a:pt x="0" y="11920"/>
                      <a:pt x="0" y="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40" name="AutoShape 12"/>
              <p:cNvSpPr/>
              <p:nvPr/>
            </p:nvSpPr>
            <p:spPr>
              <a:xfrm rot="10800000">
                <a:off x="5105880" y="5824080"/>
                <a:ext cx="543600" cy="294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2406" y="1577"/>
                      <a:pt x="21600" y="10770"/>
                      <a:pt x="21600" y="2160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custDash>
                  <a:ds d="8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sp>
            <p:nvSpPr>
              <p:cNvPr id="841" name="Line 13"/>
              <p:cNvSpPr/>
              <p:nvPr/>
            </p:nvSpPr>
            <p:spPr>
              <a:xfrm flipH="1">
                <a:off x="1958760" y="3033000"/>
                <a:ext cx="569520" cy="11160"/>
              </a:xfrm>
              <a:prstGeom prst="line">
                <a:avLst/>
              </a:prstGeom>
              <a:ln w="54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</p:grpSp>
        <p:sp>
          <p:nvSpPr>
            <p:cNvPr id="842" name="Rectangle 14"/>
            <p:cNvSpPr/>
            <p:nvPr/>
          </p:nvSpPr>
          <p:spPr>
            <a:xfrm rot="16200000">
              <a:off x="-940680" y="5477760"/>
              <a:ext cx="50025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Content</a:t>
              </a:r>
              <a:endParaRPr b="0" lang="en-US" sz="34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3" name="Rectangle 15"/>
            <p:cNvSpPr/>
            <p:nvPr/>
          </p:nvSpPr>
          <p:spPr>
            <a:xfrm>
              <a:off x="5995800" y="8748360"/>
              <a:ext cx="12805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34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4" name="Rectangle 16"/>
            <p:cNvSpPr/>
            <p:nvPr/>
          </p:nvSpPr>
          <p:spPr>
            <a:xfrm>
              <a:off x="3380040" y="2197080"/>
              <a:ext cx="357948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of publication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5" name="Rectangle 17"/>
            <p:cNvSpPr/>
            <p:nvPr/>
          </p:nvSpPr>
          <p:spPr>
            <a:xfrm>
              <a:off x="3889440" y="2995560"/>
              <a:ext cx="290340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 details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6" name="Rectangle 18"/>
            <p:cNvSpPr/>
            <p:nvPr/>
          </p:nvSpPr>
          <p:spPr>
            <a:xfrm>
              <a:off x="4790160" y="3857760"/>
              <a:ext cx="2865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 details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7" name="Rectangle 19"/>
            <p:cNvSpPr/>
            <p:nvPr/>
          </p:nvSpPr>
          <p:spPr>
            <a:xfrm>
              <a:off x="2301120" y="6239880"/>
              <a:ext cx="181548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ident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8" name="Rectangle 20"/>
            <p:cNvSpPr/>
            <p:nvPr/>
          </p:nvSpPr>
          <p:spPr>
            <a:xfrm>
              <a:off x="7607520" y="4935240"/>
              <a:ext cx="2739240" cy="9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ement or 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eer change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9" name="Rectangle 21"/>
            <p:cNvSpPr/>
            <p:nvPr/>
          </p:nvSpPr>
          <p:spPr>
            <a:xfrm>
              <a:off x="9610200" y="7214040"/>
              <a:ext cx="1283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ath</a:t>
              </a:r>
              <a:endParaRPr b="0" lang="en-US" sz="28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0" name="Line 22"/>
            <p:cNvSpPr/>
            <p:nvPr/>
          </p:nvSpPr>
          <p:spPr>
            <a:xfrm flipV="1">
              <a:off x="2631960" y="2501640"/>
              <a:ext cx="851760" cy="4795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1" name="Line 23"/>
            <p:cNvSpPr/>
            <p:nvPr/>
          </p:nvSpPr>
          <p:spPr>
            <a:xfrm flipV="1">
              <a:off x="2859480" y="3248640"/>
              <a:ext cx="1053000" cy="4824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2" name="Line 24"/>
            <p:cNvSpPr/>
            <p:nvPr/>
          </p:nvSpPr>
          <p:spPr>
            <a:xfrm flipV="1">
              <a:off x="4091040" y="4363200"/>
              <a:ext cx="725040" cy="6980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3" name="Line 25"/>
            <p:cNvSpPr/>
            <p:nvPr/>
          </p:nvSpPr>
          <p:spPr>
            <a:xfrm flipV="1">
              <a:off x="6844680" y="5363280"/>
              <a:ext cx="736560" cy="5976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4" name="Line 26"/>
            <p:cNvSpPr/>
            <p:nvPr/>
          </p:nvSpPr>
          <p:spPr>
            <a:xfrm flipV="1">
              <a:off x="8482320" y="7466760"/>
              <a:ext cx="1064520" cy="4824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5" name="Line 27"/>
            <p:cNvSpPr/>
            <p:nvPr/>
          </p:nvSpPr>
          <p:spPr>
            <a:xfrm flipV="1">
              <a:off x="4154400" y="5961240"/>
              <a:ext cx="736560" cy="4795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6" name="Rectangle 28"/>
            <p:cNvSpPr/>
            <p:nvPr/>
          </p:nvSpPr>
          <p:spPr>
            <a:xfrm>
              <a:off x="8749800" y="8774280"/>
              <a:ext cx="27392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ichener et al. 1997)</a:t>
              </a:r>
              <a:endParaRPr b="0" lang="en-US" sz="19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8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00184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on't you think it would be more effici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57168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422280"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f you didn't have to remember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name of that file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d the directory where you put it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units those measurements were taken in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ich sample site was which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tc.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58720" y="2590920"/>
            <a:ext cx="11862000" cy="365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elvetica Neue Light"/>
              </a:rPr>
              <a:t>Responsible Data Use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Title 1"/>
          <p:cNvSpPr/>
          <p:nvPr/>
        </p:nvSpPr>
        <p:spPr>
          <a:xfrm>
            <a:off x="482760" y="2819520"/>
            <a:ext cx="11861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(or what should you do if you find yourself re-using someone else’s data)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62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king Your Research Easier and Cheap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5000" y="4206960"/>
            <a:ext cx="1186164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06060"/>
                </a:solidFill>
                <a:latin typeface="Arial"/>
                <a:ea typeface="Arial"/>
              </a:rPr>
              <a:t>Write it down!</a:t>
            </a:r>
            <a:endParaRPr b="0" lang="en-US" sz="6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eeded Documenta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66" name="Content Placeholder 4" descr=""/>
          <p:cNvPicPr/>
          <p:nvPr/>
        </p:nvPicPr>
        <p:blipFill>
          <a:blip r:embed="rId1"/>
          <a:stretch/>
        </p:blipFill>
        <p:spPr>
          <a:xfrm>
            <a:off x="566640" y="2322360"/>
            <a:ext cx="119239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ocumentation Best Practice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ocument your conventions as they</a:t>
            </a:r>
            <a:r>
              <a:rPr b="0" lang="ja-JP" sz="3400" spc="-1" strike="noStrike">
                <a:solidFill>
                  <a:srgbClr val="606060"/>
                </a:solidFill>
                <a:latin typeface="Helvetica Neue"/>
              </a:rPr>
              <a:t>’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 establish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vise documentation contemporaneously, not 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after the fact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is work is also the basis for end-user or reviewer documentation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What should you document? Everything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ata import, manipulation, QC procedures, special flags and encoding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ming conventions, layouts, headings, units and abbrevi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oes TEMP mean </a:t>
            </a:r>
            <a:r>
              <a:rPr b="0" lang="ja-JP" sz="24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emporary,</a:t>
            </a:r>
            <a:r>
              <a:rPr b="0" lang="ja-JP" sz="24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ja-JP" sz="24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ir temperature at time of observation,</a:t>
            </a:r>
            <a:r>
              <a:rPr b="0" lang="ja-JP" sz="24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 or ?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ormulae and constant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0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ichener, W.K., Brunt, J.W., Helly, J.J., Kirchner, T.B. and S. G. Stafford. 1997. “Nongeospatial metadata for the ecological sciences.” </a:t>
            </a:r>
            <a:r>
              <a:rPr b="0" i="1" lang="en-US" sz="3400" spc="-1" strike="noStrike">
                <a:solidFill>
                  <a:srgbClr val="606060"/>
                </a:solidFill>
                <a:latin typeface="Helvetica Neue"/>
              </a:rPr>
              <a:t>Ecological Applications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7(1):330-342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training materials in development are availabl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wiki.esipfed.org/index.php/Data_Management_Course_Outlin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short list of data management related resources available on the web can be found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iki.esipfed.org/index.php/Data_Management_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Your Responsibilities as a Data Us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4160"/>
            <a:ext cx="11645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suitability of data for your purpo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llowing applicable data access and use polic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iving credit to archives and data cre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the data source with feedback about any errors or limitations with the data discove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558720" y="3200400"/>
            <a:ext cx="1164600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 “good” data, doesn’t mean that it is right for your projec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roll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n’t right for your project, doesn’t mean that it is “bad” data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nts for Determining Data Suitability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71320" y="2323800"/>
            <a:ext cx="11645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ad any papers, documentation and metadata provided – it is there for a reason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nsidc.org/data/mod10a1v5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fairly well documented data se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you still have questions, assess support availability and if acceptable ask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nsidc.org/data/g02199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poorly documented data set with an extremely low level of available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 aware that due to documentation and support limitations, the best data for your purposes may not be available to or usable by you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5" name="Picture 3" descr="MOD10A1.tiff"/>
          <p:cNvPicPr/>
          <p:nvPr/>
        </p:nvPicPr>
        <p:blipFill>
          <a:blip r:embed="rId3"/>
          <a:stretch/>
        </p:blipFill>
        <p:spPr>
          <a:xfrm>
            <a:off x="635040" y="0"/>
            <a:ext cx="11923560" cy="969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6" name="Picture 4" descr="DustCounts.tiff"/>
          <p:cNvPicPr/>
          <p:nvPr/>
        </p:nvPicPr>
        <p:blipFill>
          <a:blip r:embed="rId4"/>
          <a:stretch/>
        </p:blipFill>
        <p:spPr>
          <a:xfrm>
            <a:off x="482760" y="0"/>
            <a:ext cx="11999880" cy="975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data access and use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Content Placeholder 2"/>
          <p:cNvSpPr/>
          <p:nvPr/>
        </p:nvSpPr>
        <p:spPr>
          <a:xfrm>
            <a:off x="558720" y="2286000"/>
            <a:ext cx="11646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trend in many disciplines is towards greater data sharing, but…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rms vary by discipline (and country), for example you may need to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ubmit an application for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ign a data transfer and usage agreement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ravel to the repository to obtain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oreover there are legitimate reasons for restricting access, for example: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confidentiality of human subject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rights of local and traditional knowledge holder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information that if released may cause harm (e.g., location of endangered species, sacred sites, etc.)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  <a:ea typeface="ヒラギノ角ゴ ProN W3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t is your responsibility to understand and follow the norms for the data your are using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TextBox 1"/>
          <p:cNvSpPr/>
          <p:nvPr/>
        </p:nvSpPr>
        <p:spPr>
          <a:xfrm>
            <a:off x="605160" y="9296280"/>
            <a:ext cx="65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Helvetica Neue Light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Helvetica Neue Light"/>
              </a:rPr>
              <a:t> see IPY Data Policy at 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classic.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org/Subcommittees/final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data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polic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635040" y="2438280"/>
            <a:ext cx="11798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Would you share your data if you didn’t know that you were going to be given credit for your work?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o cite the data you use!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No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urrently data citation standards and requirements v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journal to journ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repository to reposito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discipline to disciplin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me times from author to autho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 your best to honor these existing nor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at might a data citation look like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Zwally, H.J., R. Schutz, C. Bentley, J. Bufton, T. Herring, J. Minster, J. Spinhirne, and R. Thomas. 2003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GLAS/ICESat L1A Global Altimetry Data V018, 15 October to 18 November 2003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National Snow and Ice Data Center. Data set accessed 2011-07-21 at doi:10.3334/NSIDC/gla01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uth Duerr</cp:lastModifiedBy>
  <dcterms:modified xsi:type="dcterms:W3CDTF">2011-11-29T16:59:15Z</dcterms:modified>
  <cp:revision>72</cp:revision>
  <dc:subject/>
  <dc:title>ESIP Federation 101</dc:title>
</cp:coreProperties>
</file>